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7.jpeg" ContentType="image/jpeg"/>
  <Override PartName="/ppt/media/image26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3E-D7B9-491E-B3D3-A1F720C4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95F-D550-42C6-B05A-7F5DDB3C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BBC-1951-40BE-AABA-23F201FE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096-54BB-46E1-B05D-97F30125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88E-6295-4C93-9A79-0E2A8A7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82A-6863-403D-9A25-228BA01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FFF-CA13-494B-B292-E555BDE5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0F3-0BB9-4E15-8757-46464B9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F35-7FA5-4CEB-8C1A-6797956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899-2C1B-47EB-80C5-AA3508F9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A52-C950-40B1-BA1A-825F7E2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E46-BB74-433D-A6CA-4811717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825-A423-4AE3-A349-016D40BD3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1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71508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иополимеры –нуклеиновые кислот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15"/>
          <p:cNvPicPr/>
          <p:nvPr/>
        </p:nvPicPr>
        <p:blipFill>
          <a:blip r:embed="rId1"/>
          <a:stretch/>
        </p:blipFill>
        <p:spPr>
          <a:xfrm>
            <a:off x="3000240" y="2214720"/>
            <a:ext cx="2714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hargaff"/>
          <p:cNvPicPr/>
          <p:nvPr/>
        </p:nvPicPr>
        <p:blipFill>
          <a:blip r:embed="rId1"/>
          <a:stretch/>
        </p:blipFill>
        <p:spPr>
          <a:xfrm>
            <a:off x="6500880" y="1785960"/>
            <a:ext cx="2415960" cy="3592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6576480" y="578628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вин Чарга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214200" y="507204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ъяснение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вилам Чаргаффа дали Уотсон и К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85840" y="60008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НК – это 2 цепочки, соединенные по принципу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племента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Чаргафф правила"/>
          <p:cNvPicPr/>
          <p:nvPr/>
        </p:nvPicPr>
        <p:blipFill>
          <a:blip r:embed="rId2"/>
          <a:srcRect l="0" t="0" r="0" b="7321"/>
          <a:stretch/>
        </p:blipFill>
        <p:spPr>
          <a:xfrm>
            <a:off x="357120" y="571680"/>
            <a:ext cx="5354640" cy="3786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510480" y="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а Чаргаффа (1950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52160" y="4429080"/>
            <a:ext cx="58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Ц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ринцип комплемент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81080" y="371628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зотистые основа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у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инуклеотидных цепей ДНК соединяются между собой попарно при помощи </a:t>
            </a:r>
            <a:r>
              <a:rPr b="1" i="1" lang="ru-RU" sz="2000" spc="-1" strike="noStrike">
                <a:solidFill>
                  <a:srgbClr val="023946"/>
                </a:solidFill>
                <a:latin typeface="Arial"/>
              </a:rPr>
              <a:t>водородных связ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С) по принципу </a:t>
            </a:r>
            <a:r>
              <a:rPr b="1" lang="ru-RU" sz="2000" spc="-1" strike="noStrike">
                <a:solidFill>
                  <a:srgbClr val="023946"/>
                </a:solidFill>
                <a:latin typeface="Arial"/>
              </a:rPr>
              <a:t>комплементар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странственного соответствия друг другу). Пиримидиновое основание связывается с пуриновым: тимин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аденином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е ВС),  цитозин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гуанином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ри ВС). Таким образом, содержание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одержанию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ние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содержанию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последовательность нуклеотидов в одной цепи ДНК, можно расшифровать строение (первичную структуру) второй ц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учшего запоминания принципа комплементарности можно воспользоваться </a:t>
            </a:r>
            <a:r>
              <a:rPr b="0" i="1" lang="ru-RU" sz="2000" spc="-1" strike="noStrike">
                <a:solidFill>
                  <a:srgbClr val="023946"/>
                </a:solidFill>
                <a:latin typeface="Arial"/>
              </a:rPr>
              <a:t>мнемоническим прием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апомни словосоче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 –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бинос    и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ля 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уб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4100902i"/>
          <p:cNvPicPr/>
          <p:nvPr/>
        </p:nvPicPr>
        <p:blipFill>
          <a:blip r:embed="rId1"/>
          <a:stretch/>
        </p:blipFill>
        <p:spPr>
          <a:xfrm>
            <a:off x="2195640" y="836640"/>
            <a:ext cx="4895640" cy="196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Безымянный"/>
          <p:cNvPicPr/>
          <p:nvPr/>
        </p:nvPicPr>
        <p:blipFill>
          <a:blip r:embed="rId2"/>
          <a:stretch/>
        </p:blipFill>
        <p:spPr>
          <a:xfrm>
            <a:off x="2556000" y="2781360"/>
            <a:ext cx="41320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36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179280" y="907920"/>
            <a:ext cx="5761080" cy="1657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be2f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ДНК Уотсона и Кр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95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4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НК – двойная спираль, в которой 2 полинуклеотидные цепи удерживаются водородными связями между комплементарными основания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модель была основана на следующих фак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химического анализа (ДНК – полинуклеоти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рвина Чаргафф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 равном соотношении в ДНК аденина и тимина,   цитозина и гуан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нтгенограмма ДНК, полученная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залиндой Франклин и Морисом        Уилкин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модель Уотсона-Крика позволила объяснить, каким образом при делении клетки в каждую дочернюю клетку попадает идентичная информация, содержащаяся в материнской клетке. Это происходит в результате удвоения молекулы ДНК, то есть в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п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епликация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воение молекулы ДНК называют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ре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реду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репликации часть молекулы «материнской» ДНК расплетается на две нити с помощью специального фермента , причем это достигается разрывом водородных связей между комплементарными азотистыми основаниями: аденином —тимином и гуанином – цитозином. Далее к каждому нуклеотиду разошедшихся нитей ДНК фермент ДНК-полимераза подстраивает комплементарный ему нуклеотид. Таким образом, образу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вуцепочечные молекулы ДНК, в состав каждой из которых входят одна цепочка «материнской» молекулы и одна новосинтезированная («дочерняя») цепочка. Эти две молекулы ДНК абсолют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дентич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Рисунок13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Биологическое значение </a:t>
            </a:r>
            <a:br>
              <a:rPr sz="3200"/>
            </a:b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клеиновые кислоты обеспеч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ение наследственной информации в виде генетического к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у ее при размножении дочерним организм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е реализацию при росте и развитии организма в течение жизни в виде участия в очень важном процессе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синтезе бел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Рисунок69"/>
          <p:cNvPicPr/>
          <p:nvPr/>
        </p:nvPicPr>
        <p:blipFill>
          <a:blip r:embed="rId1"/>
          <a:stretch/>
        </p:blipFill>
        <p:spPr>
          <a:xfrm>
            <a:off x="611280" y="3213000"/>
            <a:ext cx="4438440" cy="338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исунок70"/>
          <p:cNvPicPr/>
          <p:nvPr/>
        </p:nvPicPr>
        <p:blipFill>
          <a:blip r:embed="rId2"/>
          <a:stretch/>
        </p:blipFill>
        <p:spPr>
          <a:xfrm>
            <a:off x="5796000" y="3213000"/>
            <a:ext cx="27781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дания на 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2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держание адениновых нуклеотидов А в молекуле ДНК равно 20%. Определите содержание остальных (каких?) нуклеот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стройте участок второй цепочки ДНК, следуя принципу комплемента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932360" y="3448080"/>
            <a:ext cx="374328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NTN027"/>
          <p:cNvPicPr/>
          <p:nvPr/>
        </p:nvPicPr>
        <p:blipFill>
          <a:blip r:embed="rId2"/>
          <a:stretch/>
        </p:blipFill>
        <p:spPr>
          <a:xfrm>
            <a:off x="395280" y="0"/>
            <a:ext cx="2168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роверь себя – правильные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нуклеотидов в ДН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0% (равно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100 -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):2 = =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30% (равно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труктура участка двух цепей ДН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Ц – Г – 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Т – Г – Ц –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6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16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16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6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16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242000" y="1429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ибонуклеиновая кис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0" y="1285920"/>
            <a:ext cx="1171440" cy="4486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1214280" y="1928880"/>
            <a:ext cx="2286000" cy="1571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Аденин (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уанин (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Цитозин (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рацил (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авильный пятиугольник 9"/>
          <p:cNvSpPr/>
          <p:nvPr/>
        </p:nvSpPr>
        <p:spPr>
          <a:xfrm>
            <a:off x="4357800" y="1785960"/>
            <a:ext cx="1785960" cy="162864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0"/>
          <p:cNvSpPr/>
          <p:nvPr/>
        </p:nvSpPr>
        <p:spPr>
          <a:xfrm>
            <a:off x="6929280" y="2000160"/>
            <a:ext cx="2214720" cy="157176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1"/>
          <p:cNvSpPr/>
          <p:nvPr/>
        </p:nvSpPr>
        <p:spPr>
          <a:xfrm>
            <a:off x="3500280" y="25718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12"/>
          <p:cNvSpPr/>
          <p:nvPr/>
        </p:nvSpPr>
        <p:spPr>
          <a:xfrm>
            <a:off x="6000840" y="2714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2286000" y="4714920"/>
            <a:ext cx="51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РНК – это одноцепочечная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955960" y="100008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Состав нуклеотида в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иды Р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642960" y="1428840"/>
            <a:ext cx="814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Информационная РНК (и-РНК): перенос информации из ядра в цитоплазму клетки к месту синтеза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Транспортная РНК (т-РНК): перенос аминокислот к месту синтеза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Рибосомальная РНК (р-РНК): входят в состав рибосом, определяет их струк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Рибосомальные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5640" y="1197000"/>
            <a:ext cx="4608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босомальные РНК синтезируются в основном в ядрышке и составляют примерно 85-90% всех РНК клетки. В комплексе с белками они входят в состав рибосом и осуществляют синтез пептидных связей между аминокислотными звеньями при биосинтезе белка. Образно говоря,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рибосо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молекулярная вычислительная машина, переводящая тексты с нуклеотидного языка ДНК и РНК на аминокислотный язык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Рисунок36"/>
          <p:cNvPicPr/>
          <p:nvPr/>
        </p:nvPicPr>
        <p:blipFill>
          <a:blip r:embed="rId1"/>
          <a:stretch/>
        </p:blipFill>
        <p:spPr>
          <a:xfrm>
            <a:off x="1042920" y="1197000"/>
            <a:ext cx="2887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16"/>
          <p:cNvPicPr/>
          <p:nvPr/>
        </p:nvPicPr>
        <p:blipFill>
          <a:blip r:embed="rId1"/>
          <a:stretch/>
        </p:blipFill>
        <p:spPr>
          <a:xfrm>
            <a:off x="6084720" y="2565360"/>
            <a:ext cx="2519640" cy="144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788f"/>
                </a:solidFill>
                <a:latin typeface="Arial"/>
              </a:rPr>
              <a:t>Вехи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142640"/>
            <a:ext cx="84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К открыта в 1868 г швейцарским вра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 Ф. Мише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еточных яд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оцитов, отсюда и название –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уклеин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ислота (лат. «</a:t>
            </a:r>
            <a:r>
              <a:rPr b="0" i="1" lang="en-US" sz="2400" spc="-1" strike="noStrike">
                <a:solidFill>
                  <a:srgbClr val="800080"/>
                </a:solidFill>
                <a:latin typeface="Arial"/>
              </a:rPr>
              <a:t>nucleu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-30-х год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определи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К – полимер (</a:t>
            </a:r>
            <a:r>
              <a:rPr b="1" lang="ru-RU" sz="2400" spc="-1" strike="noStrike">
                <a:solidFill>
                  <a:srgbClr val="023946"/>
                </a:solidFill>
                <a:latin typeface="Arial"/>
              </a:rPr>
              <a:t>полинуклеот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укариотических клетках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ена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омосом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ли, что ДНК играет структурн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44 г. группа американских бактериологов из Рокфеллеровского института во главе 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 Эве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азала, что способность пневмококков вызывать болезнь передается от одних к другим при обмене ДНК (плазмидами). Таким образом, было доказано, что именно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НК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является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осителем наследственно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ории, объясняющей данный факт, еще не б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Администратор\Desktop\220px-Friedrich_Miescher.jpg"/>
          <p:cNvPicPr/>
          <p:nvPr/>
        </p:nvPicPr>
        <p:blipFill>
          <a:blip r:embed="rId2"/>
          <a:stretch/>
        </p:blipFill>
        <p:spPr>
          <a:xfrm>
            <a:off x="714240" y="142920"/>
            <a:ext cx="1500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Биологическая роль и-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-РНК, являясь копией с определенного участка молекулы ДНК, содержит информацию о первичной структуре одного белка. Последовательность из трех нуклеотидов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п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в молекуле и-РНК (первооснова – ДНК!) кодирует определенный вид аминокислоты. Эту информацию сравнительно небольшая молекула и-РНК переносит из ядра, проходя через поры в ядерной оболочке, к рибосоме – месту синтеза белка. Поэтому и-РНК иногда называют «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ч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подчеркивая ее роль в данной процессе. </a:t>
            </a:r>
            <a:r>
              <a:rPr b="1" lang="ru-RU" sz="2000" spc="-1" strike="noStrike">
                <a:solidFill>
                  <a:srgbClr val="fc74df"/>
                </a:solidFill>
                <a:latin typeface="Arial"/>
              </a:rPr>
              <a:t>Генетически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 расшифрован в 1965-1967 г.г., за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. Г. Кора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а присуждена Нобелевская пре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33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95280" y="4869000"/>
            <a:ext cx="1800360" cy="21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Транспортные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12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НК, доставляющие аминокислоты к рибосоме в процессе синтеза белка, называются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транспортными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Эти небольшие молекулы, форма которых напоминает лист клевера, несут на своей вершине последовательность из трех нуклеотидов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нтикодоны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С их помощью т-РНК будут присоединяться к кодонам и-РНК по принципу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комплементарност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тивоположный конец молекулы т-РНК присоедин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минокислоту,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причем только определенный вид, который соответствует его антикодону (см. генетический к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0300210"/>
          <p:cNvPicPr/>
          <p:nvPr/>
        </p:nvPicPr>
        <p:blipFill>
          <a:blip r:embed="rId1"/>
          <a:stretch/>
        </p:blipFill>
        <p:spPr>
          <a:xfrm>
            <a:off x="5143680" y="2286000"/>
            <a:ext cx="31431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8"/>
          <p:cNvCxnSpPr/>
          <p:nvPr/>
        </p:nvCxnSpPr>
        <p:spPr>
          <a:xfrm flipH="1">
            <a:off x="6928560" y="1857240"/>
            <a:ext cx="715320" cy="85824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36" name="Прямая со стрелкой 11"/>
          <p:cNvCxnSpPr/>
          <p:nvPr/>
        </p:nvCxnSpPr>
        <p:spPr>
          <a:xfrm flipH="1" flipV="1">
            <a:off x="6643800" y="5286240"/>
            <a:ext cx="643320" cy="6433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137" name="TextBox 14"/>
          <p:cNvSpPr/>
          <p:nvPr/>
        </p:nvSpPr>
        <p:spPr>
          <a:xfrm>
            <a:off x="7293240" y="14288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нтик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6297480" y="59292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кцепторный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9362"/>
                </a:solidFill>
                <a:latin typeface="Arial"/>
              </a:rPr>
              <a:t>Строение нуклеиновых кисл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и их биологическая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Строение НК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9640" y="1413000"/>
            <a:ext cx="820908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-100080"/>
            <a:ext cx="84358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3640" y="28584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авильности заполнения 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-1440" y="907920"/>
          <a:ext cx="9145440" cy="5757840"/>
        </p:xfrm>
        <a:graphic>
          <a:graphicData uri="http://schemas.openxmlformats.org/drawingml/2006/table">
            <a:tbl>
              <a:tblPr/>
              <a:tblGrid>
                <a:gridCol w="3058920"/>
                <a:gridCol w="280836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4" marL="72216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инуклеотиды, мономеры которых имеют общий план стро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ЗЛИЧ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оксириб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Азотистые 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н -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ми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зин - гуа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н –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аци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  цитозин – гуан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йная спи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цепочечная молеку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о, митохондрии и хлоропл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а, рибос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Биологические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ение наследственной информации и передача ее из поколения в поко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матричном биосинтезе белка на рибосоме, т.е. реализация наследственн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дание на 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675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я принципу комплементар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 участок молекулы иРНК по учас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цепи ДНК. Как называется данный проце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верь себ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ANTN027"/>
          <p:cNvPicPr/>
          <p:nvPr/>
        </p:nvPicPr>
        <p:blipFill>
          <a:blip r:embed="rId1"/>
          <a:stretch/>
        </p:blipFill>
        <p:spPr>
          <a:xfrm>
            <a:off x="250920" y="260280"/>
            <a:ext cx="1950840" cy="16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0299125"/>
          <p:cNvPicPr/>
          <p:nvPr/>
        </p:nvPicPr>
        <p:blipFill>
          <a:blip r:embed="rId2"/>
          <a:stretch/>
        </p:blipFill>
        <p:spPr>
          <a:xfrm>
            <a:off x="468360" y="4076640"/>
            <a:ext cx="1595520" cy="237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Рисунок31"/>
          <p:cNvPicPr/>
          <p:nvPr/>
        </p:nvPicPr>
        <p:blipFill>
          <a:blip r:embed="rId3"/>
          <a:stretch/>
        </p:blipFill>
        <p:spPr>
          <a:xfrm>
            <a:off x="2627280" y="2349360"/>
            <a:ext cx="5108760" cy="9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Рисунок32"/>
          <p:cNvPicPr/>
          <p:nvPr/>
        </p:nvPicPr>
        <p:blipFill>
          <a:blip r:embed="rId4"/>
          <a:stretch/>
        </p:blipFill>
        <p:spPr>
          <a:xfrm>
            <a:off x="2627280" y="3933720"/>
            <a:ext cx="5246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2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6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4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428760" y="142884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1868 году Иоганн Фридрих Мишер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фессор Эрвин Чаргаффв 1950 году определил……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1953 году физик  Ф. Крик и генетик Дж.Уотсон расшифровали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д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уя материалы тетради закончит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Молекулы ДНК представляют собой материальную основу наследственности, так как в них закодирована информация о структуре 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полисахаридов   б – белков   в – липидов   г – 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В состав нуклеиновых кислот НЕ вх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азотистые основания   б – остатки пентоз    в – остатки фосфорной кислоты    г – амино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вязь, возникающая между азотистыми основаниями двух комплементарных цепей ДНК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ионная   б – пептидная   в – водородная   г – сложноэф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Комплементарными основаниями НЕ являетс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тимин - аденин        б – цитозин - гуанин           в – цитозин - аденин                            г – урацил - адени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В одном из генов ДНК 100 нуклеотидов с тимином, что составляет 10% от общего количества. Сколько нуклеотидов с гуанин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200     б – 400     в – 1000     г – 18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Молекулы РНК, в отличие от ДНК, содержат азотисто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урацил     б – аденин     в – гуанин     г – цитоз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NTN027"/>
          <p:cNvPicPr/>
          <p:nvPr/>
        </p:nvPicPr>
        <p:blipFill>
          <a:blip r:embed="rId1"/>
          <a:stretch/>
        </p:blipFill>
        <p:spPr>
          <a:xfrm>
            <a:off x="46836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Благодаря репликаци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формируется приспособленность организма к среде об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– у особей вида возникают мод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появляются новые комбинации г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– наследственная информация в полном объеме передается от материнской   клетки к дочерним во время ми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Молекулы и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служат матрицей для синтеза т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– служат матрицей для синтеза б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доставляют аминокислоты к рибос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– хранят наследственную информацию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Кодовому триплету ААТ в молекуле ДНК соответствует триплет в молекуле   и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УУА      б – ТТА      в – ГГЦ      г – Ц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Белок состоит из 50 аминокислотных звеньев. Число нуклеотидов в гене, в котором зашифрована первичная структура этого белка,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50       б – 100       в – 150       г – 2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ANTN027"/>
          <p:cNvPicPr/>
          <p:nvPr/>
        </p:nvPicPr>
        <p:blipFill>
          <a:blip r:embed="rId1"/>
          <a:stretch/>
        </p:blipFill>
        <p:spPr>
          <a:xfrm>
            <a:off x="46836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В рибосоме при биосинтезе белка располагаются два триплета и-РНК, к   которым в соответствии с принципом комплементарности присоединяются антикод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т-РНК      б – р-РНК      в – ДНК      г – б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 Какая последовательность правильно отражает путь реализации генетической информ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ген – ДНК – признак – белок          б) признак – белок – и-РНК – ген – ДН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и-РНК – ген – белок – признак        г) ген – и-РНК – белок – призн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 Собственные ДНК и РНК в эукариотической клетке содер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рибосомы      б – лизосомы      в – вакуоли      г – митохонд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 В состав хромосом вх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РНК и липиды      б – белки и ДНК     в – АТФ и т-РНК     г – АТФ и 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 Ученые, которые предположили и доказали, что молекула ДНК – двойная спираль,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И. Ф. Мишер и О. Эвери        б – М. Ниренберг и Дж. Матт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Дж. Д. Уотсон и Ф. Крик          г – Р. Франклин и М. Уилки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TN027"/>
          <p:cNvPicPr/>
          <p:nvPr/>
        </p:nvPicPr>
        <p:blipFill>
          <a:blip r:embed="rId1"/>
          <a:stretch/>
        </p:blipFill>
        <p:spPr>
          <a:xfrm>
            <a:off x="32400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946"/>
                </a:solidFill>
                <a:latin typeface="Arial"/>
              </a:rPr>
              <a:t>Проверь себя – правильные 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7280" y="1125360"/>
            <a:ext cx="1944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92800" y="1341360"/>
            <a:ext cx="28512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j0299125"/>
          <p:cNvPicPr/>
          <p:nvPr/>
        </p:nvPicPr>
        <p:blipFill>
          <a:blip r:embed="rId1"/>
          <a:stretch/>
        </p:blipFill>
        <p:spPr>
          <a:xfrm>
            <a:off x="468360" y="1557360"/>
            <a:ext cx="2755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0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ОТСОН Джеймс Дью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1928 - н.в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ериканский биофизик, биохимик, молекулярный биолог, предложил гипотезу о том, что ДНК имеет форму двойной спирали, выяснил молекулярную структуру нуклеиновых кислот и принцип передачи наследственной информации. Лауреат Нобелевской премии 1962 года по физиологии и медицине (вместе с Фрэнсис Харри Комптоном Крик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181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788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106-112,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овторить стр. 85-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одготовиться к контрольной работе «Химический состав клет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К Френсис Харри Комптон (1916 - н.в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глийский физик, биофизик, специалист в области молекулярной биологии, выяснил молекулярную структуру нуклеиновых кислот; открыв основные типы РНК, предложил теорию передачи генетического кода и показал, как происходит копирование молекул ДНК при делении клеток. Ученый является членом Лондонского королевского общества (1959), в 1962 году стал лауреатом Нобелевской премии по физиологии и медицине (вместе с Джеймсом Дьюи Уотсон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2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Химическое строение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920" y="856800"/>
            <a:ext cx="878688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Нуклеиновые кислоты являются   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биополимерами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, мономеры которых – нуклеоти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аждый нуклеотид состоит из 3-х ча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азотистого осн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97b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7b52"/>
                </a:solidFill>
                <a:latin typeface="Arial"/>
              </a:rPr>
              <a:t>пентозы – моносахари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1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9200"/>
                </a:solidFill>
                <a:latin typeface="Arial"/>
              </a:rPr>
              <a:t>остатка фосфорной кисло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Рисунок66"/>
          <p:cNvPicPr/>
          <p:nvPr/>
        </p:nvPicPr>
        <p:blipFill>
          <a:blip r:embed="rId1"/>
          <a:stretch/>
        </p:blipFill>
        <p:spPr>
          <a:xfrm>
            <a:off x="2643120" y="4929120"/>
            <a:ext cx="4121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Organization Chart 2"/>
          <p:cNvGrpSpPr/>
          <p:nvPr/>
        </p:nvGrpSpPr>
        <p:grpSpPr>
          <a:xfrm>
            <a:off x="1307520" y="1615320"/>
            <a:ext cx="6366960" cy="4600800"/>
            <a:chOff x="1307520" y="1615320"/>
            <a:chExt cx="6366960" cy="4600800"/>
          </a:xfrm>
        </p:grpSpPr>
        <p:cxnSp>
          <p:nvCxnSpPr>
            <p:cNvPr id="57" name="_s1028"/>
            <p:cNvCxnSpPr>
              <a:stCxn id="58" idx="0"/>
              <a:endCxn id="59" idx="3"/>
            </p:cNvCxnSpPr>
            <p:nvPr/>
          </p:nvCxnSpPr>
          <p:spPr>
            <a:xfrm flipV="1">
              <a:off x="7071120" y="3052080"/>
              <a:ext cx="124920" cy="272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61" idx="0"/>
              <a:endCxn id="59" idx="2"/>
            </p:cNvCxnSpPr>
            <p:nvPr/>
          </p:nvCxnSpPr>
          <p:spPr>
            <a:xfrm flipV="1">
              <a:off x="7071120" y="3051720"/>
              <a:ext cx="124920" cy="166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_s1030"/>
            <p:cNvCxnSpPr>
              <a:stCxn id="63" idx="0"/>
              <a:endCxn id="59" idx="1"/>
            </p:cNvCxnSpPr>
            <p:nvPr/>
          </p:nvCxnSpPr>
          <p:spPr>
            <a:xfrm flipV="1">
              <a:off x="7071120" y="3051720"/>
              <a:ext cx="124920" cy="60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_s1031"/>
            <p:cNvCxnSpPr>
              <a:stCxn id="65" idx="0"/>
              <a:endCxn id="66" idx="3"/>
            </p:cNvCxnSpPr>
            <p:nvPr/>
          </p:nvCxnSpPr>
          <p:spPr>
            <a:xfrm rot="10800000">
              <a:off x="1788120" y="3051720"/>
              <a:ext cx="122400" cy="272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6" idx="2"/>
            </p:cNvCxnSpPr>
            <p:nvPr/>
          </p:nvCxnSpPr>
          <p:spPr>
            <a:xfrm rot="10800000">
              <a:off x="1788120" y="3051720"/>
              <a:ext cx="122400" cy="166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0"/>
              <a:endCxn id="66" idx="1"/>
            </p:cNvCxnSpPr>
            <p:nvPr/>
          </p:nvCxnSpPr>
          <p:spPr>
            <a:xfrm rot="10800000">
              <a:off x="1788120" y="3051720"/>
              <a:ext cx="122400" cy="60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_s1034"/>
            <p:cNvCxnSpPr>
              <a:stCxn id="59" idx="0"/>
              <a:endCxn id="72" idx="1"/>
            </p:cNvCxnSpPr>
            <p:nvPr/>
          </p:nvCxnSpPr>
          <p:spPr>
            <a:xfrm flipV="1" rot="16200000">
              <a:off x="5760720" y="995400"/>
              <a:ext cx="166320" cy="2703960"/>
            </a:xfrm>
            <a:prstGeom prst="bentConnector3">
              <a:avLst>
                <a:gd name="adj1" fmla="val 4989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66" idx="0"/>
              <a:endCxn id="72" idx="0"/>
            </p:cNvCxnSpPr>
            <p:nvPr/>
          </p:nvCxnSpPr>
          <p:spPr>
            <a:xfrm flipH="1" flipV="1" rot="5400000">
              <a:off x="3057120" y="995400"/>
              <a:ext cx="166320" cy="2703960"/>
            </a:xfrm>
            <a:prstGeom prst="bentConnector3">
              <a:avLst>
                <a:gd name="adj1" fmla="val 4989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" name="_s1036"/>
            <p:cNvSpPr/>
            <p:nvPr/>
          </p:nvSpPr>
          <p:spPr>
            <a:xfrm>
              <a:off x="1985400" y="1615320"/>
              <a:ext cx="5011560" cy="649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800000"/>
                  </a:solidFill>
                  <a:latin typeface="Arial"/>
                </a:rPr>
                <a:t>Нуклеиновые кислот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1307520" y="2430720"/>
              <a:ext cx="960120" cy="62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5c5a"/>
                </a:gs>
                <a:gs pos="50000">
                  <a:srgbClr val="ffffff"/>
                </a:gs>
                <a:gs pos="100000">
                  <a:srgbClr val="005c5a"/>
                </a:gs>
              </a:gsLst>
              <a:lin ang="8100000"/>
            </a:gradFill>
            <a:ln w="3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5c5a"/>
                  </a:solidFill>
                  <a:latin typeface="Arial"/>
                </a:rPr>
                <a:t>ДНК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6714360" y="2430720"/>
              <a:ext cx="960120" cy="62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99"/>
                  </a:solidFill>
                  <a:latin typeface="Arial"/>
                </a:rPr>
                <a:t>РНК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9"/>
            <p:cNvSpPr/>
            <p:nvPr/>
          </p:nvSpPr>
          <p:spPr>
            <a:xfrm>
              <a:off x="1911240" y="321840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Ядерна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хромосома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>
              <a:off x="1911240" y="427320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кольцевая ДН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митохондр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1"/>
            <p:cNvSpPr/>
            <p:nvPr/>
          </p:nvSpPr>
          <p:spPr>
            <a:xfrm>
              <a:off x="1911240" y="532836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ьцевая ДН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хлоропласт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2"/>
            <p:cNvSpPr/>
            <p:nvPr/>
          </p:nvSpPr>
          <p:spPr>
            <a:xfrm>
              <a:off x="4614840" y="321840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информацио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и-РНК</a:t>
              </a:r>
              <a:r>
                <a:rPr b="0" lang="ru-RU" sz="21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– 0,5-1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3"/>
            <p:cNvSpPr/>
            <p:nvPr/>
          </p:nvSpPr>
          <p:spPr>
            <a:xfrm>
              <a:off x="4614840" y="427320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транспорт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т-РНК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– 9-10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44"/>
            <p:cNvSpPr/>
            <p:nvPr/>
          </p:nvSpPr>
          <p:spPr>
            <a:xfrm>
              <a:off x="4614840" y="532836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рибосом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р-РНК</a:t>
              </a:r>
              <a:r>
                <a:rPr b="0" lang="ru-RU" sz="21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90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Виды нуклеиновых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3640" y="-100080"/>
            <a:ext cx="84358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1440" y="907920"/>
          <a:ext cx="9145440" cy="4724640"/>
        </p:xfrm>
        <a:graphic>
          <a:graphicData uri="http://schemas.openxmlformats.org/drawingml/2006/table">
            <a:tbl>
              <a:tblPr/>
              <a:tblGrid>
                <a:gridCol w="3058920"/>
                <a:gridCol w="280836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4" marL="72216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ЗЛИЧ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Азотистые 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Биологические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ервичная структура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Нуклеотид"/>
          <p:cNvPicPr/>
          <p:nvPr/>
        </p:nvPicPr>
        <p:blipFill>
          <a:blip r:embed="rId1"/>
          <a:stretch/>
        </p:blipFill>
        <p:spPr>
          <a:xfrm>
            <a:off x="1332000" y="765000"/>
            <a:ext cx="4429080" cy="2840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720" y="907560"/>
            <a:ext cx="345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отиды связываются между собой в полинуклеотидную цеп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ложноэфирными связя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через 3-й углеродный атом одной молекулы пентозы, кислотный остаток фосфорной кислоты и  5-й углеродный атом другой молекулы пентозы. Остатки азотистых оснований направлены в одну сторону (внутрь молекулы ДН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соединения нуклеотидов в полимерную цепь и являетс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ервичной структу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уклеиновых кис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Фрагмент ДНК"/>
          <p:cNvPicPr/>
          <p:nvPr/>
        </p:nvPicPr>
        <p:blipFill>
          <a:blip r:embed="rId2"/>
          <a:stretch/>
        </p:blipFill>
        <p:spPr>
          <a:xfrm>
            <a:off x="250920" y="3213000"/>
            <a:ext cx="432108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Вторичная структура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пираль ДН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765000"/>
            <a:ext cx="6624720" cy="3686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а ДНК – спиральная, состоит из двух полинуклеотидных цепей, закрученных вокруг общей оси – </a:t>
            </a:r>
            <a:r>
              <a:rPr b="1" lang="ru-RU" sz="2000" spc="-1" strike="noStrike">
                <a:solidFill>
                  <a:srgbClr val="5400a8"/>
                </a:solidFill>
                <a:latin typeface="Arial"/>
              </a:rPr>
              <a:t>вторичная структу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ары оснований располагаются строго перпендикулярно оси двойной спирали, подобно перекладинам в перевитой веревочной лестнице. Эти пары имеют почти точно одинаковые размеры, поэтому в структуру двойной спирали «вписываются» любые последовательности пар оснований. Данное строение и отража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дель Уотсона-Кр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10:36Z</dcterms:created>
  <dc:creator>1</dc:creator>
  <dc:description/>
  <dc:language>en-US</dc:language>
  <cp:lastModifiedBy>SPARTACUS</cp:lastModifiedBy>
  <dcterms:modified xsi:type="dcterms:W3CDTF">2014-11-20T15:31:07Z</dcterms:modified>
  <cp:revision>16</cp:revision>
  <dc:subject/>
  <dc:title>Изучение нуклеиновых кислот  в школьном курсе  биологии и химии</dc:title>
</cp:coreProperties>
</file>